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56.png" ContentType="image/png"/>
  <Override PartName="/ppt/media/image40.jpeg" ContentType="image/jpe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59.jpeg" ContentType="image/jpeg"/>
  <Override PartName="/ppt/media/image25.jpeg" ContentType="image/jpeg"/>
  <Override PartName="/ppt/media/image16.jpeg" ContentType="image/jpeg"/>
  <Override PartName="/ppt/media/image58.jpeg" ContentType="image/jpeg"/>
  <Override PartName="/ppt/media/image8.png" ContentType="image/png"/>
  <Override PartName="/ppt/media/image23.jpeg" ContentType="image/jpeg"/>
  <Override PartName="/ppt/media/image42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2.png" ContentType="image/png"/>
  <Override PartName="/ppt/media/image57.jpeg" ContentType="image/jpeg"/>
  <Override PartName="/ppt/media/image1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13.jpeg" ContentType="image/jpeg"/>
  <Override PartName="/ppt/media/image30.jpeg" ContentType="image/jpeg"/>
  <Override PartName="/ppt/media/DRUMROLL.WAV" ContentType="audio/x-wav"/>
  <Override PartName="/ppt/media/image31.jpeg" ContentType="image/jpeg"/>
  <Override PartName="/ppt/media/image20.png" ContentType="image/png"/>
  <Override PartName="/ppt/media/image37.jpeg" ContentType="image/jpeg"/>
  <Override PartName="/ppt/media/image38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2.gif" ContentType="image/gif"/>
  <Override PartName="/ppt/media/image5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EXPLODE.WAV" ContentType="audio/x-wav"/>
  <Override PartName="/ppt/media/image4.jpeg" ContentType="image/jpeg"/>
  <Override PartName="/ppt/media/image51.png" ContentType="image/pn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C355-1EB6-4D83-A8A8-9866FE2C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F21-0A9E-418F-A409-DC351A3A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cell phone ringer to maximum. Hang from a string to prevent contact with bottom of vacuum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9902-1AD7-488D-95FF-BFCDB916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325B-BF04-416B-BE09-309725BF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105F-3D16-46B3-8A5B-52C8FCDA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1EEC-5AAA-4BF6-8A38-B86FBF38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858-D7ED-432F-A0F6-96635570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172-2DAE-4966-858F-81F3E374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0FA-B935-448A-B2F6-23BBB8EB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9354-FFAB-4256-844E-6E0AB370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F30-C454-4052-979D-43752BA0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628-2684-4E16-897A-F1540A4E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D05-4665-412E-8316-10030635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0B7C-8FD4-4F04-8469-16A600CB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5F22-B5ED-435D-81A2-A6EC04BB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F06-97C3-422D-AD63-30E5C5E6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943-3EE8-4205-A80D-F216877C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A93-B6DB-45AB-BA5F-6AC66A9F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C91A-EF3C-49A4-8E2E-EF3B1C35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C01-EDF2-499E-8B2D-66173A47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DFB-0392-47C2-9D71-F9BC9F3E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A233-E8F6-4D1E-B28E-67DABC2D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B80-7746-4A17-BE75-79EEC67F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CEB-BEFC-481E-A966-0C227B81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8C3-87D1-4743-99A5-A24B5C76A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8E3-E0D7-48DC-AF02-BA4CAD44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35BE-935B-4578-8FD3-69D456F6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1353-A674-4AFA-9A64-6B034CF1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47F-C261-4821-8693-9E5C27E9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50D2-EC98-49FC-B922-930DB782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DD2-8CDE-4672-A99F-6EAB3318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ECA-5D09-42DC-BDAA-990A7B5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DA1-5140-48E4-A21B-0A733D89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099-F8AF-4640-9DB9-027A1970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953B-8EC8-47BD-9003-404D918A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199-B8C8-4F3E-A3D3-03860F5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304-F9E5-4D88-921B-F4D7865A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D2E9-3276-46CD-B4BE-D08A4B3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140-CA70-40ED-82C5-F078600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D520-C99E-4281-9A5D-A40FB476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BA5-FD9E-4FC6-9EB0-FE5A90A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91D-3386-4CC2-B0F1-DB60D44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7997-C794-4314-A80D-86C3F80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FBB-F88A-4A3C-ABE1-DDA3F2A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AE7-8EB5-45A2-B989-124C5E67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50FF-D34B-408B-96A7-36ED63AE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AA62-6265-43B8-90EA-D1492761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A2C-63AD-4340-9901-AE5A3E0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EB7-B4A0-42DD-859E-0C5C372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EA4-62F8-4014-80F4-C2CDD568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54E-EB8E-4F5D-B283-828120D0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05B-F597-4438-BB8F-4D7C3F5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97A-1331-4D46-9027-B336DB5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BC1-5DAE-4109-9AFA-E036DF0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9D4-D7A3-491C-B90E-9FACD76EE87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F8F0-3CBC-473A-BCF5-1981633E816D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BAD-537F-43B2-A7DF-8A31D2BCD73F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file:///tmp/home/.config/libreoffice/4/user/gallery/400+401Hz.wav" TargetMode="External"/><Relationship Id="rId3" Type="http://schemas.openxmlformats.org/officeDocument/2006/relationships/image" Target="../media/image51.png"/><Relationship Id="rId4" Type="http://schemas.openxmlformats.org/officeDocument/2006/relationships/hyperlink" Target="file:///tmp/home/.config/libreoffice/4/user/gallery/400+403Hz.wav" TargetMode="External"/><Relationship Id="rId5" Type="http://schemas.openxmlformats.org/officeDocument/2006/relationships/image" Target="../media/image51.png"/><Relationship Id="rId6" Type="http://schemas.openxmlformats.org/officeDocument/2006/relationships/hyperlink" Target="file:///tmp/home/.config/libreoffice/4/user/gallery/400+410Hz.wav" TargetMode="External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on.aol.com/video/the-original-tacoma-narrows-bridge-collapse-of-1940-119995718" TargetMode="External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image" Target="../media/image57.jpeg"/><Relationship Id="rId6" Type="http://schemas.openxmlformats.org/officeDocument/2006/relationships/image" Target="../media/image57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PWucNgN8TQ&amp;feature=player_embedded" TargetMode="External"/><Relationship Id="rId2" Type="http://schemas.openxmlformats.org/officeDocument/2006/relationships/hyperlink" Target="http://www.wimp.com/rubenstube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560-4A21-4513-A557-994FE859E960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 &amp; Musi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11" descr="458150253_82aaa163e7_o"/>
          <p:cNvPicPr/>
          <p:nvPr/>
        </p:nvPicPr>
        <p:blipFill>
          <a:blip r:embed="rId1"/>
          <a:stretch/>
        </p:blipFill>
        <p:spPr>
          <a:xfrm>
            <a:off x="1523880" y="1476360"/>
            <a:ext cx="6248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8FF7-4EE0-49A7-B244-8E0EDC1ECB6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Light &amp;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waves can only travel through a material, such as air, wat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and radio waves can travel through vac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58080" y="2019240"/>
            <a:ext cx="2400120" cy="3733920"/>
          </a:xfrm>
          <a:prstGeom prst="can">
            <a:avLst>
              <a:gd name="adj" fmla="val 25000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6070680" y="4800600"/>
            <a:ext cx="2374920" cy="99072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hone_lgvx4500_c_200"/>
          <p:cNvPicPr/>
          <p:nvPr/>
        </p:nvPicPr>
        <p:blipFill>
          <a:blip r:embed="rId1"/>
          <a:stretch/>
        </p:blipFill>
        <p:spPr>
          <a:xfrm>
            <a:off x="6629400" y="3263760"/>
            <a:ext cx="130824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/>
          <p:cNvSpPr/>
          <p:nvPr/>
        </p:nvSpPr>
        <p:spPr>
          <a:xfrm>
            <a:off x="6527880" y="3809880"/>
            <a:ext cx="1168200" cy="838440"/>
          </a:xfrm>
          <a:prstGeom prst="irregularSeal1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66840" y="3884760"/>
            <a:ext cx="409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 the cell phone ringing inside vacuum chamber but don’t hear any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 flipV="1" rot="7843200">
            <a:off x="7124760" y="2349720"/>
            <a:ext cx="1892160" cy="901440"/>
          </a:xfrm>
          <a:prstGeom prst="pie">
            <a:avLst/>
          </a:prstGeom>
          <a:solidFill>
            <a:srgbClr val="ccecff">
              <a:alpha val="90000"/>
            </a:srgbClr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EE1-E5E3-46D0-94D0-F4BBDEC7792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light waves have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call the type of heat transfer that occurs when light transfers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und waves have also have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2514-F6DF-481C-A110-C603800CC0E7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20-01UnFigure_FIG"/>
          <p:cNvPicPr/>
          <p:nvPr/>
        </p:nvPicPr>
        <p:blipFill>
          <a:blip r:embed="rId1"/>
          <a:stretch/>
        </p:blipFill>
        <p:spPr>
          <a:xfrm>
            <a:off x="4643280" y="1447920"/>
            <a:ext cx="359100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a That Transmit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ravels better through elastic liquids and solids, such as water and rocks, than through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ue to the close proximity of the atoms as they vib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940440" y="3516480"/>
            <a:ext cx="2203560" cy="916920"/>
          </a:xfrm>
          <a:prstGeom prst="rect">
            <a:avLst/>
          </a:prstGeom>
          <a:solidFill>
            <a:srgbClr val="ffffff">
              <a:alpha val="7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 richer, louder sound transmitted b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A50-744B-4DD2-9E71-FA1FF413C9A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Your Voice Sounds Lik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7654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voice sounds different to you when you hear it from a reco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ecause when you are speaking aloud, most sound waves reach your ear traveling through the solid flesh and bone of your sku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42247607"/>
          <p:cNvPicPr/>
          <p:nvPr/>
        </p:nvPicPr>
        <p:blipFill>
          <a:blip r:embed="rId1"/>
          <a:stretch/>
        </p:blipFill>
        <p:spPr>
          <a:xfrm>
            <a:off x="6127920" y="1508040"/>
            <a:ext cx="2857320" cy="280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ESYRECAL"/>
          <p:cNvPicPr/>
          <p:nvPr/>
        </p:nvPicPr>
        <p:blipFill>
          <a:blip r:embed="rId2"/>
          <a:stretch/>
        </p:blipFill>
        <p:spPr>
          <a:xfrm>
            <a:off x="6541920" y="4033800"/>
            <a:ext cx="2602080" cy="267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rod-holt-cellphone"/>
          <p:cNvPicPr/>
          <p:nvPr/>
        </p:nvPicPr>
        <p:blipFill>
          <a:blip r:embed="rId3"/>
          <a:stretch/>
        </p:blipFill>
        <p:spPr>
          <a:xfrm>
            <a:off x="4975200" y="3344760"/>
            <a:ext cx="1886040" cy="1895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5054760" y="524340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eav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 voic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ar2"/>
          <p:cNvPicPr/>
          <p:nvPr/>
        </p:nvPicPr>
        <p:blipFill>
          <a:blip r:embed="rId1"/>
          <a:srcRect l="10001" t="8244" r="11576" b="7725"/>
          <a:stretch/>
        </p:blipFill>
        <p:spPr>
          <a:xfrm>
            <a:off x="1019160" y="1324080"/>
            <a:ext cx="6921360" cy="4697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uman E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76120" y="6094440"/>
            <a:ext cx="85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variations of sound waves push the eardrum, whose vibrations are transmitted by the ossicles (ear bones) to the cochlea (hearing 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chl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brations transmitted by the ear bones create oscillations in the fluid with the cochlea (snail in Latin), which is a spiral-wrapped t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scillations within the cochlea cause the basilar membrane to ripple, like a waving fl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ocfetus"/>
          <p:cNvPicPr/>
          <p:nvPr/>
        </p:nvPicPr>
        <p:blipFill>
          <a:blip r:embed="rId1"/>
          <a:stretch/>
        </p:blipFill>
        <p:spPr>
          <a:xfrm>
            <a:off x="506520" y="3606840"/>
            <a:ext cx="2492280" cy="270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chcoch"/>
          <p:cNvPicPr/>
          <p:nvPr/>
        </p:nvPicPr>
        <p:blipFill>
          <a:blip r:embed="rId2"/>
          <a:stretch/>
        </p:blipFill>
        <p:spPr>
          <a:xfrm>
            <a:off x="3252960" y="3419640"/>
            <a:ext cx="332388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ross"/>
          <p:cNvPicPr/>
          <p:nvPr/>
        </p:nvPicPr>
        <p:blipFill>
          <a:blip r:embed="rId3"/>
          <a:stretch/>
        </p:blipFill>
        <p:spPr>
          <a:xfrm>
            <a:off x="7059600" y="3932280"/>
            <a:ext cx="11336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gan of Cort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 of Corti forms a ribbon of sensory epithelium that runs lengthwise down the entire cochl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ir cells of the organ of Corti selectively transform the oscillations of the basilar membrane into nerve sign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cochlea"/>
          <p:cNvPicPr/>
          <p:nvPr/>
        </p:nvPicPr>
        <p:blipFill>
          <a:blip r:embed="rId1"/>
          <a:stretch/>
        </p:blipFill>
        <p:spPr>
          <a:xfrm>
            <a:off x="309600" y="3494160"/>
            <a:ext cx="4257720" cy="2867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ochlea-crosssection"/>
          <p:cNvPicPr/>
          <p:nvPr/>
        </p:nvPicPr>
        <p:blipFill>
          <a:blip r:embed="rId2"/>
          <a:stretch/>
        </p:blipFill>
        <p:spPr>
          <a:xfrm>
            <a:off x="4762440" y="3301920"/>
            <a:ext cx="40766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224-4E15-49F2-A8E3-403D01E771D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udness &amp; Amplitu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ness depends on amplitude of pressure and density variations in 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lwaveloud1"/>
          <p:cNvPicPr/>
          <p:nvPr/>
        </p:nvPicPr>
        <p:blipFill>
          <a:blip r:embed="rId1"/>
          <a:stretch/>
        </p:blipFill>
        <p:spPr>
          <a:xfrm>
            <a:off x="355680" y="3289320"/>
            <a:ext cx="410688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lwaveloud3"/>
          <p:cNvPicPr/>
          <p:nvPr/>
        </p:nvPicPr>
        <p:blipFill>
          <a:blip r:embed="rId2"/>
          <a:stretch/>
        </p:blipFill>
        <p:spPr>
          <a:xfrm>
            <a:off x="4775040" y="3289320"/>
            <a:ext cx="4127760" cy="1238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lwave_moving"/>
          <p:cNvPicPr/>
          <p:nvPr/>
        </p:nvPicPr>
        <p:blipFill>
          <a:blip r:embed="rId3"/>
          <a:stretch/>
        </p:blipFill>
        <p:spPr>
          <a:xfrm>
            <a:off x="2162160" y="4900680"/>
            <a:ext cx="4819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graph_1_2_b2"/>
          <p:cNvPicPr/>
          <p:nvPr/>
        </p:nvPicPr>
        <p:blipFill>
          <a:blip r:embed="rId1"/>
          <a:srcRect l="3240" t="2621" r="2435" b="0"/>
          <a:stretch/>
        </p:blipFill>
        <p:spPr>
          <a:xfrm>
            <a:off x="4997520" y="547560"/>
            <a:ext cx="3782880" cy="6043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93640" y="1332000"/>
            <a:ext cx="48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 of sound depends on the amplitude of pressure variations in the sound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 is measured in decibels (dB), which is a logarithmic scale (since our perception of loudness varies logarithmical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threshold of hearing (0 dB) to the threshold of pain (120 dB) the pressure increase is a million times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hreshold of pain (120 db) the pressure variation is only about 10 Pascals, which is one ten thousandths atmospher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EE1-154E-4E74-A972-065328A2AB67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soundmeter"/>
          <p:cNvPicPr/>
          <p:nvPr/>
        </p:nvPicPr>
        <p:blipFill>
          <a:blip r:embed="rId1"/>
          <a:stretch/>
        </p:blipFill>
        <p:spPr>
          <a:xfrm rot="19782000">
            <a:off x="5365440" y="2576520"/>
            <a:ext cx="2324160" cy="37688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ake Some Noi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experience the loudness of sound like by clapping at various decibel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clapping"/>
          <p:cNvPicPr/>
          <p:nvPr/>
        </p:nvPicPr>
        <p:blipFill>
          <a:blip r:embed="rId2"/>
          <a:stretch/>
        </p:blipFill>
        <p:spPr>
          <a:xfrm>
            <a:off x="731880" y="2959200"/>
            <a:ext cx="3735360" cy="2679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162200" y="323676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4280" y="5776920"/>
            <a:ext cx="6305760" cy="703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rt clapping softly and slowly increase or decrease loudness, as I direct you using the sound 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4204-739A-4A93-B334-6D440BCB071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227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is a wave that is produced by the vibrations of material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1680" y="6199200"/>
            <a:ext cx="170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uning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2164680"/>
          <p:cNvPicPr/>
          <p:nvPr/>
        </p:nvPicPr>
        <p:blipFill>
          <a:blip r:embed="rId1"/>
          <a:stretch/>
        </p:blipFill>
        <p:spPr>
          <a:xfrm>
            <a:off x="5537160" y="1790640"/>
            <a:ext cx="3181320" cy="4241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6988680" y="4194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tar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tunfor"/>
          <p:cNvPicPr/>
          <p:nvPr/>
        </p:nvPicPr>
        <p:blipFill>
          <a:blip r:embed="rId2"/>
          <a:stretch/>
        </p:blipFill>
        <p:spPr>
          <a:xfrm>
            <a:off x="3740040" y="3070080"/>
            <a:ext cx="1409760" cy="323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hoto160snare"/>
          <p:cNvPicPr/>
          <p:nvPr/>
        </p:nvPicPr>
        <p:blipFill>
          <a:blip r:embed="rId3"/>
          <a:stretch/>
        </p:blipFill>
        <p:spPr>
          <a:xfrm>
            <a:off x="635040" y="3878280"/>
            <a:ext cx="2628720" cy="2217600"/>
          </a:xfrm>
          <a:prstGeom prst="rect">
            <a:avLst/>
          </a:prstGeom>
          <a:ln w="0">
            <a:noFill/>
          </a:ln>
        </p:spPr>
      </p:pic>
      <p:sp>
        <p:nvSpPr>
          <p:cNvPr id="102" name="Line 12"/>
          <p:cNvSpPr/>
          <p:nvPr/>
        </p:nvSpPr>
        <p:spPr>
          <a:xfrm flipH="1" flipV="1">
            <a:off x="1955880" y="4025880"/>
            <a:ext cx="9360" cy="55872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197080" y="4138560"/>
            <a:ext cx="1244520" cy="368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um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aring by Age &amp; Sex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95800" y="5281560"/>
            <a:ext cx="80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 acuity decreases with age, especially in the high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women have greater acoustic sensitivity than 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"/>
          <p:cNvGrpSpPr/>
          <p:nvPr/>
        </p:nvGrpSpPr>
        <p:grpSpPr>
          <a:xfrm>
            <a:off x="1128600" y="1522800"/>
            <a:ext cx="6962040" cy="3719160"/>
            <a:chOff x="1128600" y="1522800"/>
            <a:chExt cx="6962040" cy="3719160"/>
          </a:xfrm>
        </p:grpSpPr>
        <p:pic>
          <p:nvPicPr>
            <p:cNvPr id="199" name="Picture 5" descr="Ath-byage"/>
            <p:cNvPicPr/>
            <p:nvPr/>
          </p:nvPicPr>
          <p:blipFill>
            <a:blip r:embed="rId1"/>
            <a:srcRect l="1464" t="2972" r="16287" b="2972"/>
            <a:stretch/>
          </p:blipFill>
          <p:spPr>
            <a:xfrm>
              <a:off x="1128600" y="1628640"/>
              <a:ext cx="5708880" cy="36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6"/>
            <p:cNvSpPr/>
            <p:nvPr/>
          </p:nvSpPr>
          <p:spPr>
            <a:xfrm>
              <a:off x="1769040" y="1522800"/>
              <a:ext cx="496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solute thresholds of hearing by age in males and fem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6599160" y="380844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cc"/>
                  </a:solidFill>
                  <a:latin typeface="Arial"/>
                </a:rPr>
                <a:t>Male, Age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6599160" y="35164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Male, Age 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6599160" y="30592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Male, Age 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6599160" y="252576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ale, Age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6624360" y="18144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Arial"/>
                </a:rPr>
                <a:t>Male, Age 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6611400" y="2805120"/>
              <a:ext cx="14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male, Age 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3614400"/>
            <a:ext cx="51055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cells that respond to high frequency sound are very vulnerable to destruction, and loss of these neurons typically produces difficulty understanding human vo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this type of permanent hearing loss is avoidable by reducing exposure, such as to loud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bush%20hearing%20Reuters"/>
          <p:cNvPicPr/>
          <p:nvPr/>
        </p:nvPicPr>
        <p:blipFill>
          <a:blip r:embed="rId1"/>
          <a:stretch/>
        </p:blipFill>
        <p:spPr>
          <a:xfrm>
            <a:off x="5611680" y="3497400"/>
            <a:ext cx="3208320" cy="291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57168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ir cells that line the cochlea are a delicate and vulnerable part of the ear. Repeated or sustained exposure to loud noise destroys the neurons of the Organ of Cor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estroyed, the hair cells are not replaced, and the sound frequencies interpreted by them are no longer he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855120" y="53197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A22-3249-431F-875B-A1DC7B7A6BB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peed of 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of sound in air is about 340 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ravels about one kilometer in three seconds, about one mile in five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million time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lightning"/>
          <p:cNvPicPr/>
          <p:nvPr/>
        </p:nvPicPr>
        <p:blipFill>
          <a:blip r:embed="rId1"/>
          <a:stretch/>
        </p:blipFill>
        <p:spPr>
          <a:xfrm>
            <a:off x="4722840" y="1940040"/>
            <a:ext cx="40035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DCAF-E565-46F7-982B-54F35C9A68A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Helium Vo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582948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peed in helium is higher than speed in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of sound unchanged (size of vocal cords is unchang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voice is higher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HeliumBalloon"/>
          <p:cNvPicPr/>
          <p:nvPr/>
        </p:nvPicPr>
        <p:blipFill>
          <a:blip r:embed="rId1"/>
          <a:stretch/>
        </p:blipFill>
        <p:spPr>
          <a:xfrm>
            <a:off x="5915160" y="1898640"/>
            <a:ext cx="2681280" cy="1893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B-Donald"/>
          <p:cNvPicPr/>
          <p:nvPr/>
        </p:nvPicPr>
        <p:blipFill>
          <a:blip r:embed="rId2"/>
          <a:stretch/>
        </p:blipFill>
        <p:spPr>
          <a:xfrm>
            <a:off x="6283440" y="3935520"/>
            <a:ext cx="2368440" cy="2174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6374520" y="2639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7428600" y="39225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alk lik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040200" y="5402160"/>
            <a:ext cx="29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176280" y="483408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ve sp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207240" y="534672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ve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02400" y="512280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equenc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905440" y="1890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 Heliu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F54-D79B-4CAF-BF73-370B6585134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January%202004%20Quiet%20800"/>
          <p:cNvPicPr/>
          <p:nvPr/>
        </p:nvPicPr>
        <p:blipFill>
          <a:blip r:embed="rId1"/>
          <a:stretch/>
        </p:blipFill>
        <p:spPr>
          <a:xfrm>
            <a:off x="723960" y="293364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lectio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reflects strongly from rigid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er surfaces absorb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407200" y="3236760"/>
            <a:ext cx="32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iet after a fresh snowfall because the soft, irregular surface of the snow absorbs sound instead of refl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DEC-87F6-4FFB-A4A6-2597437EBCA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owded, which restaurant will be qui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restaurant_south_side"/>
          <p:cNvPicPr/>
          <p:nvPr/>
        </p:nvPicPr>
        <p:blipFill>
          <a:blip r:embed="rId1"/>
          <a:stretch/>
        </p:blipFill>
        <p:spPr>
          <a:xfrm>
            <a:off x="1378080" y="2297160"/>
            <a:ext cx="3200400" cy="338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Windstar%20Restaurant%20in%20Use"/>
          <p:cNvPicPr/>
          <p:nvPr/>
        </p:nvPicPr>
        <p:blipFill>
          <a:blip r:embed="rId2"/>
          <a:stretch/>
        </p:blipFill>
        <p:spPr>
          <a:xfrm>
            <a:off x="4754520" y="2314440"/>
            <a:ext cx="2936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4F4-48DD-467C-9917-577E58E933C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nging in the Show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flections from the hard walls create reverb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your voice from several sources, slightly shifted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beration extends each note and smears (smoothens)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bigShower2"/>
          <p:cNvPicPr/>
          <p:nvPr/>
        </p:nvPicPr>
        <p:blipFill>
          <a:blip r:embed="rId1"/>
          <a:stretch/>
        </p:blipFill>
        <p:spPr>
          <a:xfrm>
            <a:off x="5251320" y="1832040"/>
            <a:ext cx="3097440" cy="3295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5318280" y="5192640"/>
            <a:ext cx="31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Your voice sounds better when singing in the s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D76-4C72-4482-A87D-75A47B3FC82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ractio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peed can vary by material or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ound to bend in direction, in the same way that light bends when it passes through a glass l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491280" y="4799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20-08Figure_FIG"/>
          <p:cNvPicPr/>
          <p:nvPr/>
        </p:nvPicPr>
        <p:blipFill>
          <a:blip r:embed="rId1"/>
          <a:stretch/>
        </p:blipFill>
        <p:spPr>
          <a:xfrm>
            <a:off x="1282680" y="3483000"/>
            <a:ext cx="66927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BA5-6ED8-4E41-BDE9-6C22A1422BA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ultrasound_side"/>
          <p:cNvPicPr/>
          <p:nvPr/>
        </p:nvPicPr>
        <p:blipFill>
          <a:blip r:embed="rId1"/>
          <a:stretch/>
        </p:blipFill>
        <p:spPr>
          <a:xfrm>
            <a:off x="5060880" y="3500280"/>
            <a:ext cx="3987720" cy="30067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ltra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8280" y="1600200"/>
            <a:ext cx="5168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und is high frequency (Megahertz), short wavel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1 mm)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and refractions of ultrasound by flesh and bone allow “seeing” inside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ultrasound"/>
          <p:cNvPicPr/>
          <p:nvPr/>
        </p:nvPicPr>
        <p:blipFill>
          <a:blip r:embed="rId2"/>
          <a:stretch/>
        </p:blipFill>
        <p:spPr>
          <a:xfrm>
            <a:off x="5987880" y="1430280"/>
            <a:ext cx="28576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164-9589-45EC-A8FE-4EBAF5EA5A3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d Vib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ng guitar strings force the vibration of the guitar’s body, producing most of the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interference"/>
          <p:cNvPicPr/>
          <p:nvPr/>
        </p:nvPicPr>
        <p:blipFill>
          <a:blip r:embed="rId1"/>
          <a:stretch/>
        </p:blipFill>
        <p:spPr>
          <a:xfrm>
            <a:off x="3860640" y="2847960"/>
            <a:ext cx="4589640" cy="32432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5168160" y="2957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55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6t%20002"/>
          <p:cNvPicPr/>
          <p:nvPr/>
        </p:nvPicPr>
        <p:blipFill>
          <a:blip r:embed="rId2"/>
          <a:stretch/>
        </p:blipFill>
        <p:spPr>
          <a:xfrm>
            <a:off x="876240" y="2827440"/>
            <a:ext cx="2809800" cy="37465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7471440" y="29113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73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4327560" y="5878440"/>
            <a:ext cx="38671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r rings indicate where the surface is vibrating up an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AA05-9DC1-4E13-A16A-527EC69EAAE2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tuningforktube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57240" y="3933720"/>
            <a:ext cx="5429520" cy="1781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und waves are produced by the vibration of a material object. E.g., the reed of a saxophone, the string of a guitar or the tines of a tuning f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av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itud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ves that transport acoustic energy through a medium by particle-to-particle interactions between neighboring molecules as they oscillate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the sound wave produced is equal to the frequency of the vibrating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1996-26B0-4AC3-AFBA-B61AECBDEE5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 Tuning Fork &amp; Sound Bo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fork by itself is not very 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s much louder if it is held against a sound box, such as the body of a guitar or any similar rigid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ning fork forces the surface into oscillation at the sam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6t%20002"/>
          <p:cNvPicPr/>
          <p:nvPr/>
        </p:nvPicPr>
        <p:blipFill>
          <a:blip r:embed="rId1"/>
          <a:stretch/>
        </p:blipFill>
        <p:spPr>
          <a:xfrm>
            <a:off x="4878360" y="3841920"/>
            <a:ext cx="3746520" cy="2809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4-23"/>
          <p:cNvPicPr/>
          <p:nvPr/>
        </p:nvPicPr>
        <p:blipFill>
          <a:blip r:embed="rId2"/>
          <a:srcRect l="0" t="0" r="0" b="9449"/>
          <a:stretch/>
        </p:blipFill>
        <p:spPr>
          <a:xfrm>
            <a:off x="5803920" y="1866960"/>
            <a:ext cx="30481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FF02-2B5A-48BD-BB56-8C1CA01BFA2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pipewrench_00"/>
          <p:cNvPicPr/>
          <p:nvPr/>
        </p:nvPicPr>
        <p:blipFill>
          <a:blip r:embed="rId1"/>
          <a:stretch/>
        </p:blipFill>
        <p:spPr>
          <a:xfrm rot="1326000">
            <a:off x="5670720" y="3479760"/>
            <a:ext cx="2838240" cy="2838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atural Frequen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wrench and wooden bat sound very different when dropped to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aterials and shapes vibrate at their own natural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pr-Baseball-Akadema_Precision_Series_AKA_Wood_Bat_A881-resized200"/>
          <p:cNvPicPr/>
          <p:nvPr/>
        </p:nvPicPr>
        <p:blipFill>
          <a:blip r:embed="rId2"/>
          <a:stretch/>
        </p:blipFill>
        <p:spPr>
          <a:xfrm>
            <a:off x="4559400" y="163836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4B84-7951-4A1C-9795-4536CFD05AC7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inging Ro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king an aluminum rod with rosin-covered fingers induces loud vibrations at the rod’s natural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3D4020"/>
          <p:cNvPicPr/>
          <p:nvPr/>
        </p:nvPicPr>
        <p:blipFill>
          <a:blip r:embed="rId1"/>
          <a:stretch/>
        </p:blipFill>
        <p:spPr>
          <a:xfrm>
            <a:off x="4915080" y="2647800"/>
            <a:ext cx="4025880" cy="3556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3d40-20"/>
          <p:cNvPicPr/>
          <p:nvPr/>
        </p:nvPicPr>
        <p:blipFill>
          <a:blip r:embed="rId2"/>
          <a:stretch/>
        </p:blipFill>
        <p:spPr>
          <a:xfrm>
            <a:off x="1025640" y="4229280"/>
            <a:ext cx="335916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6426-4E1A-4CD9-A779-9130FB81F4D7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5760" y="1396800"/>
            <a:ext cx="839484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 occurs when forced vibrations match an object’s 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cillations grow in amplitude due to synchronized transfer of energy into the vibrating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A swing resonance"/>
          <p:cNvPicPr/>
          <p:nvPr/>
        </p:nvPicPr>
        <p:blipFill>
          <a:blip r:embed="rId1"/>
          <a:stretch/>
        </p:blipFill>
        <p:spPr>
          <a:xfrm>
            <a:off x="4102200" y="3468600"/>
            <a:ext cx="2882880" cy="2608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ush"/>
          <p:cNvPicPr/>
          <p:nvPr/>
        </p:nvPicPr>
        <p:blipFill>
          <a:blip r:embed="rId2"/>
          <a:stretch/>
        </p:blipFill>
        <p:spPr>
          <a:xfrm>
            <a:off x="1301760" y="3257640"/>
            <a:ext cx="20955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oustic Reson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at an object’s natural frequency can produce resonant vib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x_10"/>
          <p:cNvPicPr/>
          <p:nvPr/>
        </p:nvPicPr>
        <p:blipFill>
          <a:blip r:embed="rId1"/>
          <a:stretch/>
        </p:blipFill>
        <p:spPr>
          <a:xfrm>
            <a:off x="4770360" y="3025800"/>
            <a:ext cx="3960720" cy="34862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9"/>
          <p:cNvSpPr/>
          <p:nvPr/>
        </p:nvSpPr>
        <p:spPr>
          <a:xfrm>
            <a:off x="365040" y="3097080"/>
            <a:ext cx="42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mplitude of the sound is sufficiently large, resonant vibrations can shatter a wine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how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th B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is may even be achieved by exceptionally powerful singers (and by average singers using electronic amplifi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18F-5F11-4ADA-AC33-9A70531D1656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sound waves differing slightly in frequency are superimposed they will not maintain a constant phas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ds to alternating reinforcement and cancellation of the sound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audible result is a series of pulsations called b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beat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86040" y="4267080"/>
            <a:ext cx="5429160" cy="1457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peak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33840" y="4343400"/>
            <a:ext cx="836280" cy="387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speak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33840" y="4835520"/>
            <a:ext cx="836280" cy="387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peak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33840" y="5327640"/>
            <a:ext cx="838080" cy="38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3581280" y="44190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01 Hz sounds – 1 beat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581280" y="491436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03 Hz sounds – 3 beat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3581280" y="52722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10 Hz sounds – 10 beat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CAC-C6B7-45A9-AB7D-57D88F9CF28B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uper4"/>
          <p:cNvPicPr/>
          <p:nvPr/>
        </p:nvPicPr>
        <p:blipFill>
          <a:blip r:embed="rId1"/>
          <a:stretch/>
        </p:blipFill>
        <p:spPr>
          <a:xfrm>
            <a:off x="3200400" y="2590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tern of alternating constructive and destructive interference can be found from applying the law of superposition to the interfering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046-7FBE-434A-BCE9-7B63530A5E6A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ts can occur with any kind of wave and are a practical way to compare frequ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ne a piano, a piano tuner listens for beats produced between a standard tuning fork and a particular string on the pi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requencies are identical, the beats disapp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s of an orchestra tune up by listening for beats between their instruments and a standard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C05-72E2-45DE-B613-7C1C15B7E97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coma Narrows Brid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0, the first Tacoma Narrows bridge was destroyed by reso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Tacoma-320x500"/>
          <p:cNvPicPr/>
          <p:nvPr/>
        </p:nvPicPr>
        <p:blipFill>
          <a:blip r:embed="rId1"/>
          <a:stretch/>
        </p:blipFill>
        <p:spPr>
          <a:xfrm>
            <a:off x="4151160" y="2933640"/>
            <a:ext cx="4643640" cy="2971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narrows01"/>
          <p:cNvPicPr/>
          <p:nvPr/>
        </p:nvPicPr>
        <p:blipFill>
          <a:blip r:embed="rId2"/>
          <a:stretch/>
        </p:blipFill>
        <p:spPr>
          <a:xfrm>
            <a:off x="361800" y="2946240"/>
            <a:ext cx="4400640" cy="2934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2742120" y="50655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6951960" y="5489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F7C-2603-4771-AA94-6E987D65BF4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acoma Narrows Brid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8" name="TACOMABRIDGEqt.avi" descr=""/>
          <p:cNvPicPr/>
          <p:nvPr/>
        </p:nvPicPr>
        <p:blipFill>
          <a:blip r:embed="rId2"/>
          <a:stretch/>
        </p:blipFill>
        <p:spPr>
          <a:xfrm>
            <a:off x="1498680" y="1550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A38-E69F-4910-AE84-56A4D5BE49BA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mission of sound requires a medium. There may be vibrations, but if there is nothing to compress and expand, there can be no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aves can propagate through solids, liquids and gas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an not travel through a vacu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Chapter 21</a:t>
            </a:r>
            <a:endParaRPr b="0" lang="en-US" sz="9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usical Soun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Noise Versus Music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difference between noise and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appearance of the wave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3200" y="6521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c&amp;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Noise and Music"/>
          <p:cNvPicPr/>
          <p:nvPr/>
        </p:nvPicPr>
        <p:blipFill>
          <a:blip r:embed="rId1"/>
          <a:srcRect l="0" t="48906" r="0" b="0"/>
          <a:stretch/>
        </p:blipFill>
        <p:spPr>
          <a:xfrm>
            <a:off x="685800" y="3581280"/>
            <a:ext cx="7696080" cy="1246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Noise and Music"/>
          <p:cNvPicPr/>
          <p:nvPr/>
        </p:nvPicPr>
        <p:blipFill>
          <a:blip r:embed="rId2"/>
          <a:srcRect l="0" t="0" r="0" b="53333"/>
          <a:stretch/>
        </p:blipFill>
        <p:spPr>
          <a:xfrm>
            <a:off x="685800" y="4952880"/>
            <a:ext cx="7696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Pitch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"highness" or "lowness" of a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ch corresponds to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rt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the Musical Scale has a frequency of 440 Her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nd Intensity and Loudn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nsity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s to the amplitude of the pressure variations in the sound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udn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ysiological sensation directly related to the sound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in bels (1bels = 10 decibels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 log(I/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6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mo – Sound 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 of Soun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ness (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 of Hear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 Damage Beg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lified Mus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t Airplane at 30 me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ound Intens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124080" y="838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3520" y="1081080"/>
          <a:ext cx="8076960" cy="4694400"/>
        </p:xfrm>
        <a:graphic>
          <a:graphicData uri="http://schemas.openxmlformats.org/drawingml/2006/table">
            <a:tbl>
              <a:tblPr/>
              <a:tblGrid>
                <a:gridCol w="2971800"/>
                <a:gridCol w="2412720"/>
                <a:gridCol w="26924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56"/>
          <p:cNvSpPr/>
          <p:nvPr/>
        </p:nvSpPr>
        <p:spPr>
          <a:xfrm>
            <a:off x="852120" y="1069920"/>
            <a:ext cx="233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Source of 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7"/>
          <p:cNvSpPr/>
          <p:nvPr/>
        </p:nvSpPr>
        <p:spPr>
          <a:xfrm>
            <a:off x="1584360" y="635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3447000" y="1058760"/>
            <a:ext cx="25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Intensity, I (W/m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9"/>
          <p:cNvSpPr/>
          <p:nvPr/>
        </p:nvSpPr>
        <p:spPr>
          <a:xfrm>
            <a:off x="5926320" y="1074600"/>
            <a:ext cx="26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Sound Level, </a:t>
            </a:r>
            <a:r>
              <a:rPr b="0" lang="en-US" sz="22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 (d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0"/>
          <p:cNvSpPr/>
          <p:nvPr/>
        </p:nvSpPr>
        <p:spPr>
          <a:xfrm>
            <a:off x="548640" y="1504800"/>
            <a:ext cx="296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Threshold of He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1"/>
          <p:cNvSpPr/>
          <p:nvPr/>
        </p:nvSpPr>
        <p:spPr>
          <a:xfrm>
            <a:off x="4100400" y="1504800"/>
            <a:ext cx="1231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I</a:t>
            </a:r>
            <a:r>
              <a:rPr b="0" lang="en-US" sz="2200" spc="-1" strike="noStrike" baseline="-25000">
                <a:solidFill>
                  <a:srgbClr val="009999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 = 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2"/>
          <p:cNvSpPr/>
          <p:nvPr/>
        </p:nvSpPr>
        <p:spPr>
          <a:xfrm>
            <a:off x="7095600" y="150480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3"/>
          <p:cNvSpPr/>
          <p:nvPr/>
        </p:nvSpPr>
        <p:spPr>
          <a:xfrm>
            <a:off x="7015680" y="1930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4"/>
          <p:cNvSpPr/>
          <p:nvPr/>
        </p:nvSpPr>
        <p:spPr>
          <a:xfrm>
            <a:off x="7015680" y="234468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5"/>
          <p:cNvSpPr/>
          <p:nvPr/>
        </p:nvSpPr>
        <p:spPr>
          <a:xfrm>
            <a:off x="7025400" y="277668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6"/>
          <p:cNvSpPr/>
          <p:nvPr/>
        </p:nvSpPr>
        <p:spPr>
          <a:xfrm>
            <a:off x="7015680" y="320364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7015680" y="36259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8"/>
          <p:cNvSpPr/>
          <p:nvPr/>
        </p:nvSpPr>
        <p:spPr>
          <a:xfrm>
            <a:off x="7015680" y="40417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9"/>
          <p:cNvSpPr/>
          <p:nvPr/>
        </p:nvSpPr>
        <p:spPr>
          <a:xfrm>
            <a:off x="6945120" y="447660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6951600" y="490212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6946560" y="533556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4369320" y="192708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3"/>
          <p:cNvSpPr/>
          <p:nvPr/>
        </p:nvSpPr>
        <p:spPr>
          <a:xfrm>
            <a:off x="4369320" y="234468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4"/>
          <p:cNvSpPr/>
          <p:nvPr/>
        </p:nvSpPr>
        <p:spPr>
          <a:xfrm>
            <a:off x="4406400" y="277668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5"/>
          <p:cNvSpPr/>
          <p:nvPr/>
        </p:nvSpPr>
        <p:spPr>
          <a:xfrm>
            <a:off x="4407840" y="320040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6"/>
          <p:cNvSpPr/>
          <p:nvPr/>
        </p:nvSpPr>
        <p:spPr>
          <a:xfrm>
            <a:off x="4406400" y="362592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7"/>
          <p:cNvSpPr/>
          <p:nvPr/>
        </p:nvSpPr>
        <p:spPr>
          <a:xfrm>
            <a:off x="4407840" y="404028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8"/>
          <p:cNvSpPr/>
          <p:nvPr/>
        </p:nvSpPr>
        <p:spPr>
          <a:xfrm>
            <a:off x="4407840" y="447372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9"/>
          <p:cNvSpPr/>
          <p:nvPr/>
        </p:nvSpPr>
        <p:spPr>
          <a:xfrm>
            <a:off x="4549320" y="490068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0"/>
          <p:cNvSpPr/>
          <p:nvPr/>
        </p:nvSpPr>
        <p:spPr>
          <a:xfrm>
            <a:off x="4430880" y="5324400"/>
            <a:ext cx="59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1"/>
          <p:cNvSpPr/>
          <p:nvPr/>
        </p:nvSpPr>
        <p:spPr>
          <a:xfrm>
            <a:off x="868320" y="1928880"/>
            <a:ext cx="229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Rustle of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2"/>
          <p:cNvSpPr/>
          <p:nvPr/>
        </p:nvSpPr>
        <p:spPr>
          <a:xfrm>
            <a:off x="1396800" y="23400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Whis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3"/>
          <p:cNvSpPr/>
          <p:nvPr/>
        </p:nvSpPr>
        <p:spPr>
          <a:xfrm>
            <a:off x="570240" y="277668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Quiet Radio i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4"/>
          <p:cNvSpPr/>
          <p:nvPr/>
        </p:nvSpPr>
        <p:spPr>
          <a:xfrm>
            <a:off x="455400" y="3203640"/>
            <a:ext cx="310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Conversation i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5"/>
          <p:cNvSpPr/>
          <p:nvPr/>
        </p:nvSpPr>
        <p:spPr>
          <a:xfrm>
            <a:off x="740520" y="3627360"/>
            <a:ext cx="256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Busy Street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6"/>
          <p:cNvSpPr/>
          <p:nvPr/>
        </p:nvSpPr>
        <p:spPr>
          <a:xfrm>
            <a:off x="1466640" y="404172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Riv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491040" y="4476600"/>
            <a:ext cx="305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Disco Music Ampl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8"/>
          <p:cNvSpPr/>
          <p:nvPr/>
        </p:nvSpPr>
        <p:spPr>
          <a:xfrm>
            <a:off x="526680" y="4902120"/>
            <a:ext cx="299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Air-raid Siren, Near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9"/>
          <p:cNvSpPr/>
          <p:nvPr/>
        </p:nvSpPr>
        <p:spPr>
          <a:xfrm>
            <a:off x="969840" y="53262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Jet, 30 m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the loudness by 10db and you increase the intensity by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the loudness by 20db and you increase the intensity by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Quality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characteristic sound that allows us to distinguish between two musical instruments.  (a.k.a.  tim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al T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one of the many frequencies present in a complex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: Guitar String 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damental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west frequency of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k.a. the first harm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rtial tone that is an integer multiple of the fundamental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8B1D-647E-4DAC-991A-99F76D639D45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can be heard from the ringing bell when air is inside the jar, but not when the air is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PPE-Ch26-3_p517-Vacuum"/>
          <p:cNvPicPr/>
          <p:nvPr/>
        </p:nvPicPr>
        <p:blipFill>
          <a:blip r:embed="rId1"/>
          <a:stretch/>
        </p:blipFill>
        <p:spPr>
          <a:xfrm>
            <a:off x="4572000" y="2819520"/>
            <a:ext cx="3390840" cy="27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Fourier Analysis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mathematical method that will resolve any periodic wave form into a series of simple sine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Figure 21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ourier"/>
          <p:cNvPicPr/>
          <p:nvPr/>
        </p:nvPicPr>
        <p:blipFill>
          <a:blip r:embed="rId1"/>
          <a:srcRect l="68602" t="59094" r="0" b="0"/>
          <a:stretch/>
        </p:blipFill>
        <p:spPr>
          <a:xfrm>
            <a:off x="5695920" y="3692520"/>
            <a:ext cx="1905120" cy="187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ourier"/>
          <p:cNvPicPr/>
          <p:nvPr/>
        </p:nvPicPr>
        <p:blipFill>
          <a:blip r:embed="rId2"/>
          <a:srcRect l="68602" t="0" r="0" b="50008"/>
          <a:stretch/>
        </p:blipFill>
        <p:spPr>
          <a:xfrm>
            <a:off x="5695920" y="14176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Fourier"/>
          <p:cNvPicPr/>
          <p:nvPr/>
        </p:nvPicPr>
        <p:blipFill>
          <a:blip r:embed="rId3"/>
          <a:srcRect l="44589" t="59094" r="29498" b="0"/>
          <a:stretch/>
        </p:blipFill>
        <p:spPr>
          <a:xfrm>
            <a:off x="4248000" y="3695760"/>
            <a:ext cx="1571760" cy="1869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Fourier"/>
          <p:cNvPicPr/>
          <p:nvPr/>
        </p:nvPicPr>
        <p:blipFill>
          <a:blip r:embed="rId4"/>
          <a:srcRect l="44589" t="0" r="29498" b="50008"/>
          <a:stretch/>
        </p:blipFill>
        <p:spPr>
          <a:xfrm>
            <a:off x="4248000" y="142416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Fourier"/>
          <p:cNvPicPr/>
          <p:nvPr/>
        </p:nvPicPr>
        <p:blipFill>
          <a:blip r:embed="rId5"/>
          <a:srcRect l="24007" t="59094" r="51451" b="0"/>
          <a:stretch/>
        </p:blipFill>
        <p:spPr>
          <a:xfrm>
            <a:off x="3006720" y="3695760"/>
            <a:ext cx="1488960" cy="1869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Fourier"/>
          <p:cNvPicPr/>
          <p:nvPr/>
        </p:nvPicPr>
        <p:blipFill>
          <a:blip r:embed="rId6"/>
          <a:srcRect l="0" t="59094" r="74432" b="0"/>
          <a:stretch/>
        </p:blipFill>
        <p:spPr>
          <a:xfrm>
            <a:off x="1554120" y="3695760"/>
            <a:ext cx="1550880" cy="186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Fourier"/>
          <p:cNvPicPr/>
          <p:nvPr/>
        </p:nvPicPr>
        <p:blipFill>
          <a:blip r:embed="rId7"/>
          <a:srcRect l="0" t="0" r="74432" b="50008"/>
          <a:stretch/>
        </p:blipFill>
        <p:spPr>
          <a:xfrm>
            <a:off x="1557360" y="1424160"/>
            <a:ext cx="155088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>
            <a:hlinkClick r:id="" action="ppaction://hlinkshowjump?jump=previousslide"/>
          </p:cNvPr>
          <p:cNvSpPr/>
          <p:nvPr/>
        </p:nvSpPr>
        <p:spPr>
          <a:xfrm>
            <a:off x="4208760" y="611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og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Fourier"/>
          <p:cNvPicPr/>
          <p:nvPr/>
        </p:nvPicPr>
        <p:blipFill>
          <a:blip r:embed="rId8"/>
          <a:srcRect l="24007" t="1731" r="51451" b="50004"/>
          <a:stretch/>
        </p:blipFill>
        <p:spPr>
          <a:xfrm>
            <a:off x="3005280" y="1420920"/>
            <a:ext cx="1488960" cy="23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omposite Wave"/>
          <p:cNvPicPr/>
          <p:nvPr/>
        </p:nvPicPr>
        <p:blipFill>
          <a:blip r:embed="rId1"/>
          <a:stretch/>
        </p:blipFill>
        <p:spPr>
          <a:xfrm>
            <a:off x="952560" y="838080"/>
            <a:ext cx="7238880" cy="5186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>
            <a:hlinkClick r:id="" action="ppaction://hlinkshowjump?jump=previousslide"/>
          </p:cNvPr>
          <p:cNvSpPr/>
          <p:nvPr/>
        </p:nvSpPr>
        <p:spPr>
          <a:xfrm>
            <a:off x="4208760" y="611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Frog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pen Organ Pip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s of Vibr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Organ Pip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&amp; Anti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Spin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losed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Organ Pip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s of Vibr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Organ Pip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&amp; Anti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.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en’s Tube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nd Coke Bot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99cc00"/>
                </a:solidFill>
                <a:latin typeface="Arial"/>
              </a:rPr>
              <a:t>http://us.yhs4.search.yahoo.com/yhs/search;_ylt=A0oG7pj6cpJS6RgAo6IPxQt.;_ylc=X1MDMjExNDcwMDU1OQRfcgMyBGJjawMwa25sMTYxOTNpMGhzJTI2YiUzRDQlMjZkJTNEWkMyLmxYWnBZRUxtWmdfSHFWWGFGeVRxdGhxWTkuQll1ek1aSXctLSUyNnMlM0Q1NCUyNmklM0RWdnpQYWRFTDFCRFRzQUt5ZXlKQwRjc3JjcHZpZANnZUtINmtvRzd2d0tYcUV3VWprQ1BBNnd6alozTDFLU2N2b0FBZEpaBGZyAwRmcjIDc2ItdG9wBGdwcmlkA3prQy5PQ3hxUXl5a202bC5ncldXWUEEbXRlc3RpZANudWxsBG5fcnNsdAM4BG5fc3VnZwM0BG9yaWdpbgN1cy55aHM0LnNlYXJjaC55YWhvby5jb20EcG9zAzAEcHFzdHIDBHBxc3RybAMEcXN0cmwDMTcEcXVlcnkDcnViZW4gdHViZSB2aWRlbyAEdF9zdG1wAzEzODUzMjk0MTcxNDgEdnRlc3RpZANudWxs?p=ruben+tube+video+&amp;fr2=sb-top&amp;hspart=avg&amp;hsimp=yhs-fh_lsonsw&amp;param1=rVBNb8MgDP014UZlICRwyGFJFmlSD9M-tF0JJmmltckgjbZ_P6fSet5hAsGzeX42zx-xysq-62ojO93wBkzB87ptuWkbyxsrc901UBgjshIZVkIZiqQ1GgAYpspPICT7cOexCmd2Ir3CSbCDcgIhz0tUFn2JwuveO4kBDdfCao0IQ9DW5s643uihcEIJFcQQvOwl0oNiM6klN4Tx4iKyOVLA0lgBWytR7oAWtW4uMYbz8ujG8Pq0rw7LMmfKZXKgffpOwUV_2Ll13PnpRKmZeInu34c0f2Vq8EfMFGZSl_WfvCBim8nidC37tw-T4mYkSYYzYUyErv5S4KdrL_rI0uMx-Ylyc6RMchuVgAShuAAO23gUWLIB1HZoYqzEuJm21V7lbu5SJm2NYQOOHERMM-FPQvHSb_P0C93sOcQ1xIe2eqkl3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99cc00"/>
                </a:solidFill>
                <a:latin typeface="Arial"/>
              </a:rPr>
              <a:t>-987fuXsIP0&amp;param2=browser_search_provider&amp;param3=dis_co&amp;type=dis_co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542-AB10-4354-A306-EDAB480DEC50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ound waves in a t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ong of a tuning fork next to the tube moves toward the tube, a compression enters the tu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ong swings away, in the opposite direction, a rarefaction follows the com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source vibrates, a series of compressions and rarefactions is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PPE-Ch26-2_p517-Tube"/>
          <p:cNvPicPr/>
          <p:nvPr/>
        </p:nvPicPr>
        <p:blipFill>
          <a:blip r:embed="rId1"/>
          <a:stretch/>
        </p:blipFill>
        <p:spPr>
          <a:xfrm>
            <a:off x="1828800" y="4535640"/>
            <a:ext cx="4800600" cy="1525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AA0-D95C-49B2-91AC-713F17DDA6E2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ecibel Sca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range of intensities that can be detected by the human ear is very large, a logarithmic scale, based on powers of ten, is used to measure intensity levels.  This intensity level is measured in decibels (d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50 dB sound is 100 times more intense than a 30 dB sound and 1000 times more intense than a 20 dB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hart illustrates relation between sound pressure in micropascal and decibel"/>
          <p:cNvPicPr/>
          <p:nvPr/>
        </p:nvPicPr>
        <p:blipFill>
          <a:blip r:embed="rId1"/>
          <a:stretch/>
        </p:blipFill>
        <p:spPr>
          <a:xfrm>
            <a:off x="5754600" y="1523880"/>
            <a:ext cx="285588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ature of 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in air is a longitudinal wave created by compressions and raref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-02Figure_FIG"/>
          <p:cNvPicPr/>
          <p:nvPr/>
        </p:nvPicPr>
        <p:blipFill>
          <a:blip r:embed="rId1"/>
          <a:stretch/>
        </p:blipFill>
        <p:spPr>
          <a:xfrm>
            <a:off x="685800" y="2749680"/>
            <a:ext cx="7797960" cy="238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Lwave"/>
          <p:cNvPicPr/>
          <p:nvPr/>
        </p:nvPicPr>
        <p:blipFill>
          <a:blip r:embed="rId2"/>
          <a:stretch/>
        </p:blipFill>
        <p:spPr>
          <a:xfrm>
            <a:off x="2225520" y="5268960"/>
            <a:ext cx="4819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B1D-1C2F-4038-86E2-9ACAFEFB955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ound is not Wi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ound, air molecules oscillate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ind, air moves from place to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www.york.ac.uk/depts/chem/ugrad/prospect17.jpg"/>
          <p:cNvPicPr/>
          <p:nvPr/>
        </p:nvPicPr>
        <p:blipFill>
          <a:blip r:embed="rId1"/>
          <a:stretch/>
        </p:blipFill>
        <p:spPr>
          <a:xfrm>
            <a:off x="965160" y="3051000"/>
            <a:ext cx="4240080" cy="3008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559480" y="3656160"/>
            <a:ext cx="297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oke rings are not sound because the air moves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walmart</cp:lastModifiedBy>
  <cp:lastPrinted>2013-11-24T23:38:28Z</cp:lastPrinted>
  <dcterms:modified xsi:type="dcterms:W3CDTF">2013-11-25T00:56:22Z</dcterms:modified>
  <cp:revision>589</cp:revision>
  <dc:subject/>
  <dc:title>Slide 1</dc:title>
</cp:coreProperties>
</file>